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686-3875-4618-B0E8-92640A46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ADE8-F725-4449-997D-B0AE5718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ED4-0F81-454D-8B18-8016847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6E4-B907-4201-BD86-8506A867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0F0-F2B5-431D-AB81-2D9D004C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D27-37AC-4DB4-AB41-C29A5989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A26-6B51-42AD-A99A-9F9EA229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B2A-5B61-4907-81D5-BE1FB51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18F-043F-4B45-9E65-2B52DD5D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DA9-AF7C-40AD-831A-7092C829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852-69A3-481F-A900-2561EE61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730-7CBC-4AE9-A652-F8366D7F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10E-4D33-4B12-AB7B-2F81CF7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9A-7C68-44A5-AF57-DF5DDB0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A06-BFB9-437C-A2FF-E91C27223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0472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gracias mucho y tu puedes compra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Lesle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 amiga? Quieres comer con mi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33720" y="4492800"/>
            <a:ext cx="45720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amigas buenos dia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Ro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Ro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40:53Z</dcterms:created>
  <dc:creator>FriscoISD</dc:creator>
  <dc:description/>
  <dc:language>en-US</dc:language>
  <cp:lastModifiedBy>NYCDOE</cp:lastModifiedBy>
  <dcterms:modified xsi:type="dcterms:W3CDTF">2013-01-02T14:57:41Z</dcterms:modified>
  <cp:revision>108</cp:revision>
  <dc:subject/>
  <dc:title>Profile</dc:title>
</cp:coreProperties>
</file>